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873-6B0D-473A-A68C-48E42120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4694-7EB3-4023-AF0F-91B7E54F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60E-B2AF-46F0-89A7-2141FF1D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AE4-E700-4EA4-90CC-5A355BEA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EC8-02F7-4A2B-BB23-6FC1309E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2F3-385F-4DC7-93BD-7F8DE452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B7F-4EFE-46CB-B986-B1312D56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E139-AEDA-48F9-B92B-8F9F56C1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D5C-7A21-4291-B286-A7D1A7FE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3D5-A78C-4BD0-BADE-B654C110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D2B-3F32-4691-8D0D-DDEBFF80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958-9877-4508-9734-9A438871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50FE-B050-4330-9A2B-A3B2BEA9F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tin L. We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Bacteria Have a Chance Against Viru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have evolved a way to combat viral infe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 is that defensive mechanism that gives them a fighting ch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mentioned earlier RE cut DNA at specific sites on DNA molec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ites are recognized by the base sequence in the DNA molec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 naturally produce 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virus attaches and inserts its DNA, the Bacteria’s RE will attach and cut up the viral DNA rendering it ina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ternal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and Phages are constantly trying to improve their effectiveness against each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ne evolves so does the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have learned to exploit this battle for survival between these two organis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Use 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 have learned to extract RE from Bacteria and use them to cut DNA up and look at what pieces come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at RE cut at specific sites on the DNA molec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 put RE and DNA in a reaction tube and put the product into a Electrophoresis gel to see how big the pieces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ing DNA Gels With RE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49356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the Gel and Looking at DNA B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7984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Use 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 can then see how big each piece of DNA is based on how far it moves down the g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pieces stay at the top while smaller ones move towards the bot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pecifics of this will be described next l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Doing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be preparing a DNA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then add RE to cut up our DNA molecule for analyses next lab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striction Enzyme (RE) is a enzyme that cuts up DNA molecules at specific 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 cause the molecular bonds between the DNA molecules to break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riction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91040" y="1981080"/>
            <a:ext cx="2849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get RE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on Enzymes are found in bacteria c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natural defensive mechanism that protects bacterial cells from viral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 even bacteria can be infected by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ge Attacking a Bacteri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17212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ge Life Cyc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Phages find and attach to the cell wall of a bacteria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y attach to the Bacteria they insert their own DNA into the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fected Bacteria Cell will then take the Viral DNA and replicate it and make new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ge inserting its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4051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Hij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ral DNA hijacks the the bacteria cells natural processes to use to replicate its DNA and produce new vir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cess kills the bacterial cell but can make hundreds or even thousands of new virus part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fff1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Viral Re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71600" y="3429000"/>
            <a:ext cx="61279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05:45Z</dcterms:created>
  <dc:creator>Office 2004 Test Drive User</dc:creator>
  <dc:description/>
  <dc:language>en-US</dc:language>
  <cp:lastModifiedBy>Wichita High School Northwest</cp:lastModifiedBy>
  <dcterms:modified xsi:type="dcterms:W3CDTF">2006-11-06T16:44:37Z</dcterms:modified>
  <cp:revision>3</cp:revision>
  <dc:subject/>
  <dc:title>Restriction Enzymes</dc:title>
</cp:coreProperties>
</file>